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C37-621C-4B6E-93AC-7CA265EC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8FB-2874-4410-8E87-C7FC980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3103A-6108-48FF-9E1F-AB755A87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9135A-448F-47C1-9A44-1362F45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A9F24-9387-447B-9907-628D02C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33B7E-4E46-4C20-A075-11A5BD3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01E8-6375-4F3E-8CAD-EA6CE3A3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EA8B-D4BE-439A-BBFC-91305A9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86A62-D72B-4347-986D-313EF1CC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B6C8-95C3-479F-9C77-88C4D7A1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3D897-D3C1-4687-B353-1DF7AE2B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B9F3F-7050-4706-A7CB-C98F3021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385-8B20-42A6-BA3B-1B51143A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F7496-6607-4BE3-B995-D66E812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8BD78-4E1A-466F-9CF5-90A7DA62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2831B-ED9D-4DFD-A622-253B73A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CF831-2432-494A-AC5A-E3908B3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CD43B-FE0D-4848-923B-19B05697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ABA61-F6A8-4D22-96A8-14E5343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D5261-4E1E-4E27-A7F1-2E6E7AB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34FBE-4027-425B-9999-9323888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7C1F7-C2B3-4E45-B860-C7C1628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102A-5881-49F3-8582-B1E53C65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5F7-6356-421B-871A-0D8A0D6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AED6-C5EA-476B-AD6C-F1E58F35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43D3A-E1DB-4214-B9F4-BB783E8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4C299-A275-4457-8450-E46A98B5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5328-D3FD-4499-B7F9-F7D495BB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663A-5346-4F59-925D-DF1EF87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F3003-33D5-479F-89C6-CF8D1921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21429-4C3D-4A92-81A0-E1F1960D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25A3-4ED4-4CD6-BE7B-0FF990C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0E466-6A8E-4330-AA8C-670588B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5A72-1694-4364-BE1B-DD986DF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480-9B8E-454C-A953-16355A78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B25C6-ECC4-4763-A21F-3B8D528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0FF6D-2ED9-4C76-9081-E42103A4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19F6-FF33-4643-BC3D-9ABC5174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D2E49-90F7-4A2A-8258-7980D33D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CC537-79A1-42DD-A127-92912A6E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CD158-219D-47EE-ADDD-F83D596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5A786-93D4-45D2-A173-DBC7A742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DD71E-C202-4761-94D6-2A7E99B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31CA0-6F4A-4E47-BF7D-54F6433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FCB8C-E42F-4DE8-B541-5B65DD4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50D9-758B-4522-82B3-B52EA61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81436-2792-45CE-AC99-21BD5EF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08276-6D75-4108-A338-0FD90D3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B253A-C01E-4439-9E71-AAF6953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DE400-3B62-4AD9-AB4C-F932BC5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58E2C-6EBD-4854-A86E-82CF3537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96A87-6172-4BA1-B4A5-89F5C149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FAABE-A398-4D78-B392-34F8641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ECFEB-9E9F-4779-8A5D-C1EB0827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DABC5-9652-40BD-AA07-8897AEB3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A639A-CAD4-4ADA-A2C9-C88D1F11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C7A-5365-41E4-8612-3C048968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D153B-633A-42DB-B354-40B14CE5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45D3C-90C9-40BB-AEDD-66BEA2D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F85A4-158D-407E-8AA2-203168B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DBCAB-E254-42BD-B031-D5D0AF8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E3C7E-9C07-45CD-B367-4231D67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701D8-E441-455E-9A58-4C2C9B84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F34A4-AB71-4856-A755-93D3877F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395E4-2B94-43D4-900D-802ACD7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83423-CD83-4F4E-B559-1F1F54AC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A74BC-6592-4B61-867B-74E1AEC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9E92-9F69-4A8E-A9DD-7533DD9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CF919-1F10-400E-96D5-D3C8858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90E4C-B488-4346-969A-5CDE5DE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EE313-A2C9-4C00-8E7C-EEA420DB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B6902-C5F8-48BB-960A-829BB34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18EB1-070C-4143-97B7-113F21A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8A428-85C7-4C78-B8B7-2148904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5E62C-3A29-4ADE-853B-FDF3E9A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75CB5-7131-43CD-8BA6-CFCE5C02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8AF0D-BDDA-4029-8177-D0A4E1E9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1C4FD-2BF1-452F-88A8-C748D858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9FA9-8512-40E7-A842-1712B513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C6ED2-66E3-4929-AEB3-16A0AAD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4E4A9-029F-4A48-B82B-3FEC9CE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1962A-C68E-4B28-A2D7-973CD86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937EA-1220-4052-8A21-15A25E6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796B7-7FC0-4AB0-96AC-3B2588C6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8B12F-2BE6-4990-B276-540F306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6868A-01E0-4A2F-ABA4-6970EFB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D2AD8-CA0A-48FE-AA14-87F1967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E3CF0-49A8-47AB-B2F7-98C9A92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84BFB-CCF0-4897-BBE4-9C0A6BE2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476-2738-42DE-BC71-F6BDF82A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0099E-EBE2-4D9B-8FFB-0F6DD368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D275E-5FAC-4CE6-96B0-ADAD92E2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536B9-2237-4D52-8D70-14F6412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F5481-1D83-4749-AC3E-CA1EEE8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59126-B66E-4F26-BFA7-B52B381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BDF4A-6AE8-4672-9B55-986CC6BF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9CB5A-BE52-4ECB-AD57-919978F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1DD42-8920-4EB3-AF69-F5B9B83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A1DD8-E923-4AAB-A8EB-719F35F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FE039-3648-4345-B757-FC01E3C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CAC-7B1F-4B73-87DB-40E3E7F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BD1AC-4C8E-49E9-A6E5-6D4708F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6C750-3DE8-42A6-8622-67CB24EB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96734-CDAE-4424-BA85-46281557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F63D0-DEB5-46FF-8457-E7553E3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7CE4A-0817-46EB-9A8C-A8F84A4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44239-10E6-4F9B-B125-4687E956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FE826-06DD-4093-A05A-54F37BC5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5FFE4-B8E4-4698-82CB-67BC2ABA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F06D3-46D0-424B-A9F4-A7C39EE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39176-348C-46CC-8F5E-7B84C8E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3DA-160A-4A12-A54D-B493D69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5A31-D249-45E8-B743-5D6BCCC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3D382-3E58-4886-94D2-27DBCC5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30D09-C8E0-4E66-94BF-18C38D3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22301-52AD-4D88-A028-59B7132B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A041C-570F-40B4-A613-B7545A3A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1C5F1-3B1C-4A6B-8F5C-AB4198DD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C18921-DA66-4810-9DDC-942A3819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ED1200-0E8B-477E-9208-66DC9A56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E3171E-DF25-4592-BF8B-0F6FFF1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880E41-98F5-4D06-A127-8B30928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FF2242-FF80-453E-B37B-546C7B5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255E-847E-4D40-B589-AA5ADAD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898820-EC15-4868-9983-32E5130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136090-401F-4B7B-A1B3-EE52518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049097-D339-4F65-85CE-A1355CB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BDB8F4-F3A0-4DC2-B1F0-4D5F847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9060E0-1F8C-4362-BB6B-2A183F7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8AED2B-8906-4921-8D18-406008EE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A3091E-209F-419E-9056-AA8C40B6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C5F61-8722-4610-AA57-6F687E38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CD144-25BC-4D9A-B7C6-2966569B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82767-C3AB-4E78-9751-1997A53B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D8E3-ED00-4F2C-B072-28BA132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646A6-E64D-4EC4-BE81-951C76A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9808D-5DCA-4C6F-9B33-825AA945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B5DD7-1C65-4822-8470-AC5E2710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2D801-70DD-42D7-A51F-D4322C1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F98FE-A4CF-4681-8D93-6C5C285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54AEE-A017-4960-AAF5-EAE37F7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02237-51E0-4A30-814F-80E696C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20A41-DBF3-4422-AC6E-DE687BEE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5B0E1-76C7-4DC7-B887-DD7BDC6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5A60E-DF87-4C94-901D-AA751335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AE56-6F3E-4D72-9518-8F473879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34B09-37ED-4639-9758-DBA2658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48E8B-0F35-4FC7-A277-0897405C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674E0-C494-4B18-BBD7-F4D9764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A4E97-3B21-451E-9C1C-543FDA8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56CBF-B824-465B-8EEB-8E60CB6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F1331-1F02-48BA-B752-0B1D563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4F247-F6CA-4E69-8DDD-B52DC3E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B030F-4A98-4A24-93F3-B6A8F4E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D18B2-5229-4916-96C1-120280B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D5647-B2F9-44E4-B4F4-46A251D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8896-1E33-4813-A312-847A50B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E9496-5FAB-48A4-9D75-B0456B6A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1A73F-6F68-4CB3-85F2-60DEEB0C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AAF02-A08D-404B-8612-E7947A5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3E67A-9B3F-4CD1-9ADA-7616703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D075A-EFCC-4CF3-AB4B-DC5A5A6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28C40-A999-4222-98DE-145CB3B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49596-544E-4B52-A860-42BA32FE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095EA-1F5A-4A2A-A3C5-8FB8DB1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37B85-70B8-415C-AD40-16912F6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19307-B2CC-4642-A902-A9BEAA1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97CC-ADB1-4901-89B6-49903624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04518-0D3A-4E98-961B-CBD002B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ADD64-7631-4ED1-8C72-FD963C46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9F221-EF61-4737-9399-41164B53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2A1D4-4D11-4E31-8655-E2FD8B5D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DD687-6510-426E-9005-2FCEBC61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0A77C-3C87-4AEB-BB06-A45F2CF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CDC2A0-58AF-4EB5-91EC-377C43A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2FF93-E5D3-456E-ADEF-A85524F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7F0261-464A-4165-B274-F901569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46FC9-8CBD-4F91-97DD-E669BF3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DEFF-DDA7-4541-9370-8B96CC6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7138E-11E6-4A09-B082-2D77EA2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CA3FD-AAF2-4E6A-9063-9087056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B44DB-A790-488A-97B5-12549B3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9B1BF-A8A5-4019-A40E-4E615DFC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E1ECCF-FB04-489E-8EC2-C0A255B2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AE50-0188-4149-BC5B-09687F8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8A57-3C81-4279-BBF0-E3BC0B84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6866-279D-41D1-B24F-4AA17A12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CE0-5EC7-410E-ABF9-0F458B04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FF36-3B4B-4199-8604-609956EA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782C-1F6D-47D3-BABB-39D9BB8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0ACF-4462-4104-8ABE-2BCE6EB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3878-920F-4E23-A758-DCF00B1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4712-1EF8-43A5-A6C7-23644C9B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EA97-076A-431A-B95C-3B425DB1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2F50-2E0C-4D2E-A359-C82F638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C45B-41C7-4669-9BC7-8874C3C3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048C-E058-45BB-A541-FF78A00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4834-884E-4055-B1A1-151D9F3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594-5946-46A4-B7F2-A07A430B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1F6C-7995-44E7-B3A3-CDFE9858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8134-9AD4-4882-AF87-3192E74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FCBD-58B6-47B1-AF38-E50DD67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A418-E6BC-42A1-B930-BB06396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E56F-A4E5-4CDC-AEC2-C703C57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114C-291D-40AE-9C84-2CDB00B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C895-731E-46F4-82D0-5DF80CB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1A99-4138-4DD4-AD21-C2BFAC0D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0A3D-E2DB-4D48-9FA6-93A1C5ED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8724-E7D8-41EE-B885-37EEF81E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D38-2391-4F1A-8342-F5AE962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0415-2AFD-48FB-8241-F656C64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AEF7-2898-413C-B455-FB2A56FA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6A2C-20D1-482D-9D0F-1EC9EEAE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8D63-C761-404D-AA00-4E2C4F97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E7E8-022F-4C66-8B50-E07A54E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6DD8-B45F-4615-A62F-4DE97D1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1B46-A26C-436F-A715-8E4F51B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61E2-0BA7-45FC-890C-5A7DA05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1EAE4-31C8-4549-933C-01B9BFD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C1CB-BF00-4988-8A68-D251D749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175-D1F2-4EDD-99B6-27A69D38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6AB5-639F-4DA1-B851-A4CCA3E3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B17C-2EBE-41E8-A05E-B53075CC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A47A-B0AF-4ED0-90F9-015D316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49A89-2E49-47D9-9594-7665B51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B402-995F-4969-8013-06F7AAD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75D3-A454-4341-8764-CA2383F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F26F-D54D-40AA-BF8F-12AE14B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E340-5BCC-49C0-BC88-F87E9F5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9C38-B96F-4301-A8B6-185BC64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DC3E-8017-403A-94B2-1BF1E0E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693-DDD8-46E1-BE18-8728408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776F-B091-4A18-AA3E-552345C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F67E-4ECB-4A53-9994-BE62D6C7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A3FDA-0C0B-4489-A07D-2A913C59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AAB6F-5DD8-41DD-A6FC-F9338501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94198-FEE6-4D01-82BD-FCEF9A2A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96375-D057-429B-90F2-B2937C4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125F8-0DF6-435E-844C-4427AA1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5CBCE-4724-4379-A3A4-A750477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7FA63-99E8-4C59-938B-2EEFAF2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7E6A5-9678-43ED-90DF-5AA66E0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5D3-5C7D-46A1-8C39-BCC0EC5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BE8F0-F168-475D-B8A9-508E8BF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488DC-1632-4B0E-958D-36824B1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FA904-F7C5-4CFA-A96C-E20F99E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7B3D9-3234-42DD-B493-96516104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0DF6F-0F6A-4E54-A14D-D211386B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730B-C442-46C0-A6E0-0835C6A4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7B35A-329C-46C2-BE79-F7DF5861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EF16C-5DCF-4EDA-BA85-F2D9A5D2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1CAA4-D116-49CF-BCE2-381A1CE9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E0DF-8FC3-48B7-8630-232555B9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85F-45BA-48C0-967F-2280387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454D-E962-4780-AAB1-FB19430C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0B57-0144-4642-B604-AAAC8E4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CFCD7-F513-414E-B9BE-A4C7745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CCD5-55C7-480C-8C72-0DACA6F8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C99AA-9128-40C5-A23B-B73ECEDD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ABB69-EB2A-471F-A406-393609A9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13A5-86EE-4ABB-8DCE-4630406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50E08-CCEE-434F-81D1-8D836CD0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0E1A-E3C7-4909-8224-CBFC8863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3D6FB-7A00-4DB8-9AB8-35BFC9A4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17.xml"/><Relationship Id="rId35" Type="http://schemas.openxmlformats.org/officeDocument/2006/relationships/slideLayout" Target="../slideLayouts/slideLayout218.xml"/><Relationship Id="rId36" Type="http://schemas.openxmlformats.org/officeDocument/2006/relationships/slideLayout" Target="../slideLayouts/slideLayout219.xml"/><Relationship Id="rId37" Type="http://schemas.openxmlformats.org/officeDocument/2006/relationships/slideLayout" Target="../slideLayouts/slideLayout220.xml"/><Relationship Id="rId38" Type="http://schemas.openxmlformats.org/officeDocument/2006/relationships/slideLayout" Target="../slideLayouts/slideLayout221.xml"/><Relationship Id="rId39" Type="http://schemas.openxmlformats.org/officeDocument/2006/relationships/slideLayout" Target="../slideLayouts/slideLayout222.xml"/><Relationship Id="rId40" Type="http://schemas.openxmlformats.org/officeDocument/2006/relationships/slideLayout" Target="../slideLayouts/slideLayout223.xml"/><Relationship Id="rId41" Type="http://schemas.openxmlformats.org/officeDocument/2006/relationships/slideLayout" Target="../slideLayouts/slideLayout224.xml"/><Relationship Id="rId42" Type="http://schemas.openxmlformats.org/officeDocument/2006/relationships/slideLayout" Target="../slideLayouts/slideLayout225.xml"/><Relationship Id="rId43" Type="http://schemas.openxmlformats.org/officeDocument/2006/relationships/slideLayout" Target="../slideLayouts/slideLayout226.xml"/><Relationship Id="rId44" Type="http://schemas.openxmlformats.org/officeDocument/2006/relationships/slideLayout" Target="../slideLayouts/slideLayout227.xml"/><Relationship Id="rId4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229.xml"/><Relationship Id="rId32" Type="http://schemas.openxmlformats.org/officeDocument/2006/relationships/slideLayout" Target="../slideLayouts/slideLayout230.xml"/><Relationship Id="rId33" Type="http://schemas.openxmlformats.org/officeDocument/2006/relationships/slideLayout" Target="../slideLayouts/slideLayout231.xml"/><Relationship Id="rId34" Type="http://schemas.openxmlformats.org/officeDocument/2006/relationships/slideLayout" Target="../slideLayouts/slideLayout232.xml"/><Relationship Id="rId35" Type="http://schemas.openxmlformats.org/officeDocument/2006/relationships/slideLayout" Target="../slideLayouts/slideLayout233.xml"/><Relationship Id="rId36" Type="http://schemas.openxmlformats.org/officeDocument/2006/relationships/slideLayout" Target="../slideLayouts/slideLayout234.xml"/><Relationship Id="rId37" Type="http://schemas.openxmlformats.org/officeDocument/2006/relationships/slideLayout" Target="../slideLayouts/slideLayout235.xml"/><Relationship Id="rId38" Type="http://schemas.openxmlformats.org/officeDocument/2006/relationships/slideLayout" Target="../slideLayouts/slideLayout236.xml"/><Relationship Id="rId39" Type="http://schemas.openxmlformats.org/officeDocument/2006/relationships/slideLayout" Target="../slideLayouts/slideLayout237.xml"/><Relationship Id="rId40" Type="http://schemas.openxmlformats.org/officeDocument/2006/relationships/slideLayout" Target="../slideLayouts/slideLayout238.xml"/><Relationship Id="rId41" Type="http://schemas.openxmlformats.org/officeDocument/2006/relationships/slideLayout" Target="../slideLayouts/slideLayout239.xml"/><Relationship Id="rId42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0BE8-D94A-43EB-AA69-79E73D2E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260-35EA-40DB-83A9-3C0969E7A1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8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97CA-4B23-4804-B094-6A279B2618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7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7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9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7D0-7E60-4798-81CA-5FD9189CE1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F8F2-B150-4C52-B708-1EB91626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DFA-0BD4-411A-A287-06EE3DE1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6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6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7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A91-7E0C-43EB-831B-BBFC75471CE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4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4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4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9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2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2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3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3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4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4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5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917-348C-45F1-A94C-14176EBD348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A1D4-C2CE-44ED-AB13-1163D5FFA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9DAE-ECA4-4DB0-8CF6-D282EDAF1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DF7B-EEB9-4340-9A5A-0E2A6C60B5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4"/>
    <p:sldLayoutId id="2147483884" r:id="rId35"/>
    <p:sldLayoutId id="2147483885" r:id="rId36"/>
    <p:sldLayoutId id="2147483886" r:id="rId37"/>
    <p:sldLayoutId id="2147483887" r:id="rId38"/>
    <p:sldLayoutId id="2147483888" r:id="rId39"/>
    <p:sldLayoutId id="2147483889" r:id="rId40"/>
    <p:sldLayoutId id="2147483890" r:id="rId41"/>
    <p:sldLayoutId id="2147483891" r:id="rId42"/>
    <p:sldLayoutId id="2147483892" r:id="rId43"/>
    <p:sldLayoutId id="2147483893" r:id="rId44"/>
    <p:sldLayoutId id="2147483894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371-4FA2-4426-BD90-4F9F19E8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dt" idx="5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ftr" idx="5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sldNum" idx="6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F9F-0D2A-42CC-955C-1DC4744DFC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1"/>
    <p:sldLayoutId id="2147483897" r:id="rId32"/>
    <p:sldLayoutId id="2147483898" r:id="rId33"/>
    <p:sldLayoutId id="2147483899" r:id="rId34"/>
    <p:sldLayoutId id="2147483900" r:id="rId35"/>
    <p:sldLayoutId id="2147483901" r:id="rId36"/>
    <p:sldLayoutId id="2147483902" r:id="rId37"/>
    <p:sldLayoutId id="2147483903" r:id="rId38"/>
    <p:sldLayoutId id="2147483904" r:id="rId39"/>
    <p:sldLayoutId id="2147483905" r:id="rId40"/>
    <p:sldLayoutId id="2147483906" r:id="rId41"/>
    <p:sldLayoutId id="2147483907" r:id="rId42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9968-C5A0-4BF9-A6DF-02EAD02B5C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FDE4-8436-4EAC-8927-6E90A03AF4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F311-B331-4291-94DF-DB5E487A3A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70A-F566-44CC-986B-77DB0D9865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7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EA2-4E6D-45F1-89A2-B5BE766F3F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26C-04A4-4569-8B68-6E85A3EF0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833-1E6F-475E-B0A4-5916D041F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4270-E3B8-4400-A33E-1E9824E68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BB9C-681A-4B0F-8ADF-FE74C54B3E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vokrugsveta.ru/encyclopedia/index.php?title=&#1040;&#1084;&#1077;&#1088;&#1080;&#1082;&#1072;" TargetMode="External"/><Relationship Id="rId3" Type="http://schemas.openxmlformats.org/officeDocument/2006/relationships/hyperlink" Target="http://www.worldofcoins.ru/subjects/columbus.htm" TargetMode="External"/><Relationship Id="rId4" Type="http://schemas.openxmlformats.org/officeDocument/2006/relationships/hyperlink" Target="http://ru.wikipedia.org/wiki/&#1061;&#1088;&#1080;&#1089;&#1090;&#1086;&#1092;&#1086;&#1088;_&#1050;&#1086;&#1083;&#1091;&#1084;&#1073;" TargetMode="External"/><Relationship Id="rId5" Type="http://schemas.openxmlformats.org/officeDocument/2006/relationships/hyperlink" Target="http://dic.academic.ru/dic.nsf/ruwiki/11719" TargetMode="External"/><Relationship Id="rId6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Monotype Corsiva"/>
              </a:rPr>
              <a:t>Сколько путешествий совершил Колумб к С. Америке?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боту выполни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оп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2932200" cy="344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Четвертая экспеди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6 апреля — Колумб выходит в море и возобновляет поиски пролива, двигаясь на восто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 мая — Достигнув мыса Тибурон в Дарьенском заливе.Колумб поворачивает суда на север, к Ямайк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5 июня — Колумбу после долгих скитаний по морю, в ходе которых он «открыл» Каймановы остров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юль — Колумб направляет на Эспаньолу посланника в индейской пироге с просьбой к наместнику испанской колонии прийти ему на выручк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юнь — лишь через год на Ямайку прибывает корабль, снаряжённый за счёт самого Колумб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9 июня — Колумб покидает Ямайку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2 сентября — братья Колумбы покидают Эспаньолу и сквозь многие бури добираются до Кастили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8"/>
          <a:stretch/>
        </p:blipFill>
        <p:spPr>
          <a:xfrm>
            <a:off x="5867280" y="5084640"/>
            <a:ext cx="1584360" cy="135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сего Колумб совершил 4 путешествия к Америк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ервое путешествие (3 августа 1492 — 15 марта 1493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торое путешествие (25 сентября 1493 — 11 июня 1496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Третье путешествие (30 мая 1498 — 25 ноября 1500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Четвёртое путешествие (9 мая 1502 — ноябрь 1504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.(</a:t>
            </a:r>
            <a:r>
              <a:rPr b="0" lang="ru-RU" sz="1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vokrugsveta.ru/encyclopedia/index.php?title=%D0%90%D0%BC%D0%B5%D1%80%D0%B8%D0%BA%D0%B0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2.file://localhost/E:/мои%20документы/Колумб,%20Христофор%20—%20Википедия.mh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worldofcoins.ru/subjects/columbus.htm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ru.wikipedia.org/wiki/Христофор_Колумб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dic.academic.ru/dic.nsf/ruwiki/11719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6.http://www.vokrugsveta.ru/encyclopedia/index.php?title=%D0%9A%D0%BE%D0%BB%D1%83%D0%BC%D0%B1,_%D0%A5%D1%80%D0%B8%D1%81%D1%82%D0%BE%D1%84%D0%BE%D1%8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http://visavis-tour.narod.ru/spain_famous_columb.ht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b7e7ff"/>
                </a:solidFill>
                <a:latin typeface="Monotype Corsiva"/>
              </a:rPr>
              <a:t>Цел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причину путешествий Колумба к Аме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Задач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 какое количество путешествий совершил  Х.Колум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ть эти экспедицией Х.Колум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Первое путешествие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Хронология 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Monotype Corsiva"/>
              </a:rPr>
              <a:t>3 августа 149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вел корабли из гавани города Палос-де-ла-Фронт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6 сен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После устранения течи на «Пинте» поход продолжен прямо на запад с острова Гомера (Канарские остров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6 сен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на пути экспедиции стали появляться пучки зелёных водорослей. Постепенно их становилось всё больше. Через это странное водное пространство корабли шли три недели. Так было открыто Саргассово мо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7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по требованию команды, полагающей, что Японию «проскочили», корабли меняют курс на запад-юго-запа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2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в 2 часа пополуночи матросом Родриго де Триана с борта «Пинты» обнаружена зем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3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садился на берег Остров назван Сан-Сальвадором (подробнее см. Гуанахани)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Monotype Corsiva"/>
              </a:rPr>
              <a:t>28 октября 149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садился в бухте Бариэй на северо-востоке Кубы, 76º з.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7524720" y="2421000"/>
            <a:ext cx="1417680" cy="2735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Monotype Corsiva"/>
              </a:rPr>
              <a:t>Первое путешеств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3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узнав от туземцев об острове, изобилующем золотом, Колумб двинулся на восток на его поиски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Колумб в своём дневнике впервые описывает табак, который употребляют индейцы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20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пропала «Пинта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6 дека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открыт остров Гаити, который Колумб назвал Эспаньолой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двигаясь вдоль северного берега, испанцы «открыли» остров Тортуга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25 дека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«Санта-Мария» села на рифы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6 января 1493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у северного берега Эспаньолы «Нинья» натолкнулась на «Пинту»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6 январ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два корабля вышли в обратный путь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2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поднялась буря, и в ночь на 14 февраля корабли потеряли друг друга из виду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Шторм был столь сильным, что испанцы были готовы к неминуемой гибели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когда ветер немного стих, моряки увидели землю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8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«Нинья» подошла к острову, названному в честь погибшего корабля экспедиции Санта-Мария (Азорские острова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9 марта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«Нинья» бросает якорь в Лиссабоне, где Жуан II принимает Колумба как светлейшего князя и приказывает снабдить того всем необходимым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марта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«Нинья» возвращается в Испанию. В тот же день туда приходит и «Пинта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вращение Христофора Колумба из своей первой экспедиции и весть о том, что он открыл «Западную Индию»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2"/>
          <a:stretch/>
        </p:blipFill>
        <p:spPr>
          <a:xfrm>
            <a:off x="2700360" y="4724280"/>
            <a:ext cx="2592360" cy="180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Второе путешеств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флотилия Колумба состояла уже из 17 суд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ронолог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 сентября 1493 — экспедиция вышла из Кади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ноября 1493 (в воскресенье) был открыт остров из гряды Малых Антильских островов, названный Домин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ноября — экспедиция прибыла к самому большому из здешних островов, названному Гваделуп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 ноября — открыты острова Монтсеррат, Антигуа, Невис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 ноября — у острова Санта-Крус произошло первое вооружённое столкновение с кариб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5 ноября — к северу от Санта-Круса открыт архипелаг, который Колумб назвал «Островами Одиннадцати тысяч дев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9 ноября — испанцы высадились на западном берегу большого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торый Колумб назвал Сан-Хуан-Баутиста. С XVI века он носит название Пуэрто-Рик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7 ноября — флотилия подошла к построенному в ходе первой экспедиции форту Навидад, но на берегу испанцы обнаружили лишь следы пожарища и тру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2638440" cy="1981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Второе путешеств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варь 1494 — к востоку от сожжённого форта построен город, названный Изабеллой. Многих испанцев сразила эпидемия жёлтой лихорадки. Отряд, посланный на разведку внутрь страны, нашёл золото в речном песке в горном районе Кордильера-Сентра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 1494 — Колумб совершил поход внутрь остро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4 апреля 1494 — оставив в Изабелле гарнизон под командой своего младшего брата Диего, Колумб повёл три небольших корабля на запад вдоль юго-восточного побережья Куб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мая — обнаружен узкий и глубокий залив .Далее к западу — горы Сьерра-Маэстра. Отсюда Колумб повернул на ю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ая — открыт остров Ямайка (Колумб назвал его Сантьяго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 мая — пройдя вдоль северного берега Ямайки и не найдя золота, Колумб вернулся к Куб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июня — пройдя почти 1700 км вдоль южного побережья Кубы и не дойдя лишь 100 км до западной оконечности острова, Колумб решил повернуть, потому что море сильно обмелело, матросы проявляли недовольство, а провизия была на исход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июня — 29 сентября — на обратном пути обогнули с запада и юга Ямай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 июня 1496 года Христофор Колумб вернулся в Испанию отстаивать предоставленные ему ранее права. Он предоставил документ, согласно которому он действительно достиг Азиатского матер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1860480" cy="1079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Третья экспедиц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30 мая 1498 г. флотилия вышла из устья реки Гвадалквивир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31 июля был открыт остров Тринидад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20 августа Колумб прибыл на Эспаньолу, которую застал в плачевном состоянии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565360" cy="171288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592360" cy="2260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Monotype Corsiva"/>
              </a:rPr>
              <a:t>Четвертая экспедиц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онолог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апреля 1502 — начало экспеди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 июня — двигаясь через Малые Антильские острова, «открыл» остров Марти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9 июня — спасаясь от морской бури, попросил у наместника Эспаньолы Николаса Овандо разрешения укрыться в гавани Санто-Доминго, но ему было отказано. К счастью, суда Колумба справились с бур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ль — Колумб двинулся на запад вдоль южного побережья Эспаньолы и Ямайки. Он намеревался дойти на западе до материка и отыскать пролив, следуя вдоль бере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 — Колумб подошёл к северному берегу земли, населённой народом майя (Гондурас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нтябрь — открыт Москитовый берег (Никарагуа) и «Золотой берег» (позднее — Коста-Рика, «Богатый берег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7 октября — открыт залив Москито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ябрь — суда Колумба с трудом продвигаются вдоль побережья Пана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— Экспедиция встречает новый 1503 год в бухте, которая через 400 лет станет северным входом в Панамский кана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нварь 1503 — Колумб возвращается в залив Москитос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302400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58:53Z</dcterms:created>
  <dc:creator>KATERINA</dc:creator>
  <dc:description/>
  <dc:language>en-US</dc:language>
  <cp:lastModifiedBy>KATERINA</cp:lastModifiedBy>
  <dcterms:modified xsi:type="dcterms:W3CDTF">2009-11-26T18:24:37Z</dcterms:modified>
  <cp:revision>10</cp:revision>
  <dc:subject/>
  <dc:title>Сколько экспедиций совершил  Христофор Колумб в Северную Америку?</dc:title>
</cp:coreProperties>
</file>